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dt" idx="44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Img"/>
          </p:nvPr>
        </p:nvSpPr>
        <p:spPr>
          <a:xfrm>
            <a:off x="2895120" y="525240"/>
            <a:ext cx="3506760" cy="26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ftr" idx="45"/>
          </p:nvPr>
        </p:nvSpPr>
        <p:spPr>
          <a:xfrm>
            <a:off x="-360" y="665748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 type="sldNum" idx="46"/>
          </p:nvPr>
        </p:nvSpPr>
        <p:spPr>
          <a:xfrm>
            <a:off x="5267160" y="665748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586ED-FBFD-4C0A-95C7-97E40C7D1F3E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6760" cy="263052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39040" cy="3154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6A7D0-4B93-4D56-A184-CF104B17A58D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5264280" y="6659640"/>
            <a:ext cx="4030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DE43-B424-4692-B685-C4A58DEA265D}" type="slidenum">
              <a:rPr b="0" lang="en-ZA" sz="14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2897280" y="527040"/>
            <a:ext cx="3502080" cy="26272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299880" y="3730320"/>
            <a:ext cx="8699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5264280" y="6659640"/>
            <a:ext cx="4030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5AEEE3-5095-4D0F-8120-E657031A2A14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E6A-E864-457A-A37E-4252CD91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9B6-5EE7-49A0-A84E-759D685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E1A01-D738-425C-A39D-F360AAF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9617E-FD35-46BE-A53B-05F2F65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3A8FB8-E063-48B1-89E4-A25966D2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D8A9F-5C36-4165-85B2-BA32D5A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B0B60-D668-4094-A285-BD220C3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5B8C5-D864-4C97-84A7-55B4DC2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7772D-6753-44C6-896D-A4B610A0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89267-0A43-4EBB-B857-C8A80D62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996212-73DA-4D57-8FB2-835D39BA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CCAB7-4F49-40B4-A37E-7FF53D3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938-64B4-4CDD-A73F-BAE69875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02F4B-6E8F-43CD-BFFB-C6A4945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00A3E-AF47-48F1-9563-0673B46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97B4E9-2C42-4EF1-9709-00CBCAB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5D1FF-EA05-4674-B152-048EA382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B2E138-30F0-4FE0-9C9D-1C59F75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E9706-660C-4ED5-81A3-F6B43C47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4212F-D19A-48D1-9251-9D9828CB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D95FD-9671-4069-9C17-B9904A7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90D9C-0C1E-4494-9C26-21809B60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72B4B-374A-4CFC-A7C0-0DC66347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51C-8766-47A1-9F19-90561353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63AE5E-34F2-4C20-829B-AFC089D9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7266F-9BA2-40DB-A293-E589A3CC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D61504-E8A9-47B9-9622-F804D5F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7FF41-4EF1-4AAC-9352-73FB9BDE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9D256-74BE-469A-8DFF-17BD3DD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839A0-898D-4DCB-BA6E-8A15F0C8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6D880-C65B-47D4-AD0B-43900031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AFC06-7308-4D3D-B761-066A69D9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EEDE4-C0A8-4CD7-8F48-91F4DCC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0EF93-509E-488E-927F-5B1C803C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30C67-D66B-4240-A7CA-3AA9D3967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C19B2-FF00-4F95-973E-97139AA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E20BAD-8FB9-44B2-81DB-3EA2C771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74B56-9948-4E84-B85A-4FC94C66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E4F9C9-4BD2-4767-80E6-7D6A56E2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A22A5F-5F2F-494F-8CFD-525DE380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53B21B-666E-4C59-96C2-A710BB55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E44FA0-2244-4253-9981-D696E8E3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E0FA4-B998-417D-99E6-5527054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CE0B8-20D0-47FE-86B0-02E0F6EC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49FC2-1AFD-4FEB-887B-9314A32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8A65B-269E-4F70-BFD3-A2380ACF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A5C02-D467-4809-A105-6BDC166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85572-C1A3-4AC4-B829-33581A4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B1B448-09AF-420F-86FF-2ABB5686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92F47-02AD-4056-AFB5-1C9CCC53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DB8CC-C590-4AA3-866F-024C6E0A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05C339-1E56-4E6F-B87B-0C475B69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5943FD-4CD4-4690-86F4-4F72EDF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E1878E-3B4D-4746-A3A3-9A0E5AD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811854-5455-41FB-8EBD-99B500F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775BB7-9588-43EF-BD3C-0DD6AAC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3386-93D8-46E7-AA06-E0612BF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12228-0015-44BA-9DF9-81A2B84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F4280B-7740-4DD1-B3F3-9953DE5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1A1B06-C363-4211-9790-776BE00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D98310-B401-45F1-BBEE-780160F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ABB5C-3B1A-4AA9-BE36-F8CF302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9C6A8B-7ACC-4D09-BB42-A930EBD1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922AAC-58DF-4955-845E-F281A925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EBAF3-ED01-45B8-A24C-A1FA60F1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66AEC-7056-4EFF-9366-DAB0990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34524A-B970-4BB7-B1A2-A4BAC95A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8EB6E-0D71-4F22-983A-975ADCA2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F83A44-E218-4302-BABB-89E855B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BDC3E-17EB-4C3B-A86C-F99D36E6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A22AB-D870-4846-B369-AA26132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D4472A-C081-4301-BFFE-653FAD1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20C527-F8F0-455F-B445-EC98789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33ADF6-662F-4D63-86D3-4EF14726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41E442-73EF-409E-A679-1D7C0A37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402819-5D87-4B1D-A65E-9013E1EB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BF9A8B-0530-4487-9B0D-03C34C77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D2F3F5-CEE9-48E2-8E33-819851E5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D1308-7B09-4ECF-8EE5-AF5C198C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1C8128-D8E6-4BB6-9918-7DA089A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45803-E085-4F96-A638-9BA2DCB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169BE0-8B25-4C80-8C35-5EA8F976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558504-DD29-44E0-A16E-07C46AA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45D7BF-E27C-4B34-8341-6A4B2ED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4085CA-AAEA-4F01-8814-3EBD953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28E417-5391-484A-9930-6DF5356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6060E4-6481-49B6-8DB2-9562576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6EB636-AB03-4B35-8E07-C21FED63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136C00-018E-48A2-97E8-90CF5B5A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7060-D0E2-407C-8788-04594162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822614-9DD7-4AB0-840E-284AC850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1A5224-004F-4B21-96F4-77E150FE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A10362-D1A8-4139-8DB9-CCF2CE7D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2D6742-C738-4938-90DC-B76E760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6B8308-24C2-4DDB-8BD1-375BAF2F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81A1C8-D1A9-48B0-A57C-F6A8371E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5C1E528-2FB3-43D9-8FE2-28D78386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635318-C015-43D6-9BD1-FABF634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9A9AD4-871F-41B0-B754-2A443A7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81FB9A-62A6-4CC2-B72D-F8890C86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E00BA-BDEB-4758-AE02-2B593FB0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C3F847-33BD-4315-BD5C-B3758E3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961603-5FCF-4193-A032-CD2B56CC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A5DEEA-C894-4EA2-AFD5-65905EB1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832D6B-2AFD-43D7-8303-F23782C7A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738640-56CE-46CC-A5E3-4EFB946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1E7B7B-0942-4571-B5B2-61D66313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92F4F4-5493-4780-B304-25C0D7E3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4B7935-2A6A-4DAF-9957-F8B839DE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3D085D-FDDC-432A-8FD0-2F26B4DB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8663EC-4424-46B0-BC88-006AE1A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AA1-8C16-4136-A068-0A5C5B6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5348D-700E-420F-992B-3F3AC72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9AFEDB-24C6-4BAC-8590-ABBF1B8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584CD7-42E6-40CF-A4AC-453718C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A071CC-9D43-4372-AE16-554DE21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8947007-229A-496D-9AF1-0996477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1816641-1E77-4E57-BBFA-7B91F0078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B86B4-AAEB-431A-845A-B1F4C40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55086-7516-4906-9904-FD5B341F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3B2B8-B9E7-4FCF-9663-6484F0C7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A3C6F-61F8-4834-A162-7698A70B4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F8803-2637-4997-A250-FC48A0B7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EE5CA-5101-401F-80A0-5755A566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833AD-EE39-4037-B02D-8685605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9945C-8DB5-4C21-9E03-4813A3B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0C569-8CC3-42B0-8B63-F98ABC75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F4B-5717-4243-8812-0001AB89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9147D-B698-418E-A112-11AEB9AB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A363D-029B-47A2-B10A-A4AEC60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31C60-CA04-47F2-8ECD-F809A06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EF395-7A12-4E3F-AD48-EFD565F9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324A2-7ECE-47C5-BE3A-7C89EE8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F32D2-834F-43B5-A171-B2523509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67A4C-398C-4681-AD1F-B07F66EE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DB907-EA8D-4414-8ED4-60A5BA34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60066-FAC3-4A94-B250-D078BE38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1BEC8-9396-4B83-B804-C99E76F6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477-6180-4ED9-9AF6-A1C42C8D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84A96-A4C6-43E9-878B-6C99373E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7085B-528E-478D-B815-B5F383EE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CFAAE-DEE7-447C-A686-A8AF79B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EBC0A-A496-43BC-AF4C-B09AD14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C6A1A-9C64-4568-AF4A-5212A25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2178C-3583-4F4F-913B-490297F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4F066-E0EE-482C-B674-6D9717B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8C285-398E-4537-A188-A593C9D7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2AB7D-FB2B-4A9C-A938-622FE9D0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43B-CB65-4932-ADC4-B8875A9A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05E-B7A2-448E-A7A2-B6881BF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26B-4966-4C6C-B17F-C7973220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16330-CFEB-48BF-A9C4-657D0CD8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71735-D87D-45C7-AB1E-CDBA5A78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0A207-18E7-44AF-811B-84C2F711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C742D-7E8B-446F-BDAF-E7E729B9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9B5AB-E148-4B60-8641-F2ADE0E7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DFF4E-9EE2-4663-AD50-521535D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66C6F-629A-4C38-8A03-3C8A6D00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6AB0-1C11-4951-A567-209A345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68C7D-C5DC-4ACD-BC9E-1EE53E6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563A7-D507-49A1-A15D-DB5327F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0FB77-986D-48A0-B822-7CB381C7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54F89-CA19-4F92-9432-9E64DE11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DD2F0-1A02-4FB6-BEDB-55840E06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30E5E-A0F9-4FD3-A2F0-177E372D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10174-F78F-4C98-9D91-86DCF3ED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F5B02-0DBA-473D-85A3-03983B27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F10F0-9277-4CF4-92ED-3CBDE0B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4CF2F-470A-4600-AFFA-F71C3050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CB-AC8A-4C72-A2D3-DB5B359D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33DD7-E53F-45F6-86E3-16233C9E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C3970-B62F-4C3B-BC43-15DE949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93605-5F46-4116-8C99-039F8C12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0315E-F67C-4A95-A400-57107F0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4EF5B-9A30-4619-A314-B5A07138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A9D9E-B707-42BA-8571-4294E919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E73D0-BFF3-4D0B-99F8-A48BEC12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1CA5B-F4EE-4966-9B0E-51430E61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2A743-EA46-47AA-8AD1-A493F08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047AD7-FE4C-4DA9-A11E-1B46C28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714C-7524-4022-B27F-9BB08F1E933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BBD-921D-4AC4-9748-44CD69FD6DD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533-AD4E-487A-A488-11FF72A2E58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48D2-8BA1-40E5-A863-BF8F84BDBC0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C5E-1D69-419F-BA59-A2639164A91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F7A-E9EE-49DB-B2F3-09D99D1D7E2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CB8-E43F-4B22-81CE-0526CF1C99E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F67-CA72-496A-A3D6-D7B37C45802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2BB8-7389-40CB-89FD-8601623DFC3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A105-1B6F-421B-B3E1-AF95E09BA5C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7B51-7045-4811-9647-892555F36CA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CDC9-FBBB-4447-9381-336DE24D1C2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E492-38D3-446C-82E7-56DE709D3E2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B61F-2988-4215-8258-D598DD330D0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4625-FFF0-41B2-8354-1C22B62FAE4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4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4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6C3A-DD60-48B2-AC57-7523769DD1C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CF26-16E2-4446-840A-CA4A7EC4F50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43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7CE-6C49-4901-82C7-A400A126DFA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1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1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9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9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D89-039A-4797-A006-2126D6F5838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4A3-38CC-4F74-922B-53A205CD0FA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831-692D-4E63-A3EF-5BD660AD0BB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98F-8E05-458E-8743-8E2E57F43B4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CC0-59D7-4A6B-8F30-5EB5761B432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294D-BFDF-476A-AD68-A7FDBA2B991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7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7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8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9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0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55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57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9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7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8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69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4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79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0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1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2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3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4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5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6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7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8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8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5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6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7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98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474-73C4-423A-88F0-742161A8302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074-6450-499F-B056-A887AA8F64D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913-F11A-485E-9195-FF891AF3221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8BFE-E4FE-442B-ABC3-DA81EFE0CDE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EEB7-4B88-4D7D-B615-7A1C18047DD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0EBC-7770-44B9-98EF-9A256165D0C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Object 4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98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8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85" name="Picture 23" descr="dd"/>
            <p:cNvPicPr/>
            <p:nvPr/>
          </p:nvPicPr>
          <p:blipFill>
            <a:blip r:embed="rId2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87" name="Picture 161" descr="logo small"/>
            <p:cNvPicPr/>
            <p:nvPr/>
          </p:nvPicPr>
          <p:blipFill>
            <a:blip r:embed="rId3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8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989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0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1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2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3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94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995" name="Oval 102" descr=""/>
            <p:cNvPicPr/>
            <p:nvPr/>
          </p:nvPicPr>
          <p:blipFill>
            <a:blip r:embed="rId4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97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99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01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002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10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011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0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15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01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22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023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02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27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34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035" name="Oval 138" descr=""/>
            <p:cNvPicPr/>
            <p:nvPr/>
          </p:nvPicPr>
          <p:blipFill>
            <a:blip r:embed="rId7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037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03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058920" y="2349000"/>
            <a:ext cx="5545080" cy="15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Provision of Specialised Security Services  Close Protec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Martin Sabelo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21 July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Pre-Qualification Crite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BBEE Level 1 to 4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 valid BBBEE certificate issued by a SANAS accredited agency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Valid Affidavits in DTI templat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int Ventures must submit a consolidated BBBEE certificat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462D-32E1-4B2A-98A3-C34A60B07CE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E29-734D-4138-9139-A612ABC8995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Challenges in BBBEE/Affidavit Submissions Leading into  Non Compl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n term of the BBBEE Codes of Good Practice and the BEE Commission guidelines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t is illegal for a measured entity to trade with an invalid/inconclusive or incorrect B-BBEE Verification Certificate. The procurement spend as a result of such an invalid document cannot be recognized during B-BBEE measurement, therefore, it is critical to determine the validity of B-BBEE certificates measured entities present in order to access an economic opportunity”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C0F-0E7C-4FB5-8A36-0B34998941F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EF59-CD69-49FE-9C41-D4CAACE16A2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Challenges BBBEE/Affidavit Submissions Leading into Non Compl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re-qualification requirements are that tenderers must submit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Valid BBBEE Certificate or an Affidavit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Joint Ventures must submit a consolidated BBBEE certificat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Problems Identified with submission of invalid BBBEE Certificates/Affidavit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BBBEE Certificat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Some Tenderers still submit BBBEE Certificates which are issued by Auditors or Account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 terms of the communication of 31 December 2016, issued by both DTI and IRBA.  No auditor/accountant is allowed to issue BBBEE certificates unless accredited by SANA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9845-11E5-47C0-95A1-6D2E944A5348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B68-27A6-47EA-949B-48E15493CA8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management accoun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. For QSEs, the deponent must select the basis for the empowering supplier statu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43A-E17E-425B-9149-9EB5696E3BCA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5B8-6FEF-4727-B6C1-478BEFAA60F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&amp;L Matr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E981-8ECB-4C9D-B052-4C0E7D8448C0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9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127-28C5-4A51-92E2-343F5D93FBD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250920" y="1052640"/>
          <a:ext cx="8713800" cy="5422680"/>
        </p:xfrm>
        <a:graphic>
          <a:graphicData uri="http://schemas.openxmlformats.org/drawingml/2006/table">
            <a:tbl>
              <a:tblPr/>
              <a:tblGrid>
                <a:gridCol w="220680"/>
                <a:gridCol w="141120"/>
                <a:gridCol w="1795680"/>
                <a:gridCol w="1469880"/>
                <a:gridCol w="841320"/>
                <a:gridCol w="847800"/>
                <a:gridCol w="849240"/>
                <a:gridCol w="849240"/>
                <a:gridCol w="849600"/>
                <a:gridCol w="849240"/>
              </a:tblGrid>
              <a:tr h="72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NOTE TO TENDERERS: 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. The criteria, weightings and targets are set by Eskom.   </a:t>
                      </a:r>
                      <a:br>
                        <a:rPr sz="400"/>
                      </a:b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2.  Industrialisation : Localisation includes proposed investment in plant through the establishment of new or expand existing capacity and capability. Suppliers proposing to increase local content through investment in plant must complete a separate template (commitment plan). 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15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egend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Automatically calculated or no calculation required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26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BLE 1: SUPPLIER DEVELOPMENT AND LOCALISATION COMPLIANCE MATRIX FOR SUPPLIERS AND CONTRACTORS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Criteria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Weigh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Targe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Targe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Overall Weighted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to South Africa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5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Local to Sit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LBS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BWO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63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172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curement from BYO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8172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9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5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77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07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 rowSpan="2"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Supplier Development and Localisation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6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BLE 2: SKILLS DEVELOPMENT COMPLIANCE MATRIX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 Type (Occupation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OFO Occupational Group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Weight (%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rget Number of Persons to be Trained (Local to South Africa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outh Africa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arget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Site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Proposed Number of Persons to be Trained </a:t>
                      </a:r>
                      <a:br>
                        <a:rPr sz="400"/>
                      </a:b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(Local to Site)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 Weighted Scor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Grade B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4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95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tal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10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4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0.00%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ADDITIONAL NOTES: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Local Content Local to Site refers to resourced obtained from the municipal district or province in which the project will take plac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7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 candidates Local to Site shall be sourced from the district municipality or province in which the contracted goods or services will be consumed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56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kills Development candidates Local to South Africa shall be sourced elsewhere in South Africa either than the province in which the project takes plac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he targets and proposals for skills development Local to South Africa and Local to Site are exclusive.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92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Number of jobs to be </a:t>
                      </a:r>
                      <a:r>
                        <a:rPr b="1" lang="en-US" sz="4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</a:rPr>
                        <a:t>created</a:t>
                      </a: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 as a result of this contrac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Number of jobs to be </a:t>
                      </a:r>
                      <a:r>
                        <a:rPr b="1" lang="en-US" sz="400" spc="-1" strike="noStrike" u="sng">
                          <a:solidFill>
                            <a:srgbClr val="003896"/>
                          </a:solidFill>
                          <a:uFillTx/>
                          <a:latin typeface="Arial"/>
                        </a:rPr>
                        <a:t>retained</a:t>
                      </a:r>
                      <a:r>
                        <a:rPr b="0" lang="en-US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 as a result of this contract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4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0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To be completed by Tenderer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3240" tIns="32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410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upplier Development and Localisation Representative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Company:_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Name: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esignation: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ignature: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Signature: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08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ate: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Date:__________________________________________________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8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040"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400" spc="-1" strike="noStrike">
                          <a:solidFill>
                            <a:srgbClr val="003896"/>
                          </a:solidFill>
                          <a:latin typeface="Arial Unicode MS"/>
                        </a:rPr>
                        <a:t> </a:t>
                      </a:r>
                      <a:endParaRPr b="0" lang="en-US" sz="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b" marL="3240" marR="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Slide Number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928-4CC0-46C9-B287-9AF9506D43B2}" type="slidenum">
              <a:rPr b="0" lang="en-GB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749304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327F-88F7-4E2B-97ED-16706F0FA78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065" name="Picture 3" descr="27640~No-Stupid-Questions-Posters"/>
          <p:cNvPicPr/>
          <p:nvPr/>
        </p:nvPicPr>
        <p:blipFill>
          <a:blip r:embed="rId1"/>
          <a:stretch/>
        </p:blipFill>
        <p:spPr>
          <a:xfrm>
            <a:off x="3786120" y="1700280"/>
            <a:ext cx="3441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Martin Sabelo</cp:lastModifiedBy>
  <cp:lastPrinted>2018-11-13T06:26:01Z</cp:lastPrinted>
  <dcterms:modified xsi:type="dcterms:W3CDTF">2022-07-25T10:11:02Z</dcterms:modified>
  <cp:revision>877</cp:revision>
  <dc:subject/>
  <dc:title>Slide 1</dc:title>
</cp:coreProperties>
</file>